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631CE-CA8E-40BA-9973-83D0A24FB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5636D-98C9-4646-A2A9-1593551FD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D9EFA-6D94-4BB2-9F77-970568EF0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55AEA-94DE-4E0B-A1D0-2FD4FA3D2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95503-1710-4EC8-9F55-E666010BF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0D867-6ECF-46CE-BDB5-308BA5202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B11D2-BC27-4688-9C0C-770B30527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2A4F9-47AC-4EEC-BFA2-CEC3EE1C3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50604-8755-421D-82B0-157B29B3D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0101A-8D0E-4B94-A11E-65F3B0826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E4890-2DFA-4F97-A8B9-F5E222F1F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F284F-4303-421F-B4D0-251E051FD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FB569-DED0-49E4-8F4E-6EA489082A1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0880" y="76212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Ecole d’Infirmière de la ville de Mas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219320" y="182880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plôme de fin d’étu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523880" y="3352680"/>
            <a:ext cx="6096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e diplôme est décerné à Mademoiselle Lydia Raped pour ses résultats aux examens de fin d’études de l’année 197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5257800"/>
            <a:ext cx="236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ignature directe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505320" y="5257800"/>
            <a:ext cx="236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ignature diplôm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324480" y="5257800"/>
            <a:ext cx="236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ignature examinate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HM00173_" descr=""/>
          <p:cNvPicPr/>
          <p:nvPr/>
        </p:nvPicPr>
        <p:blipFill>
          <a:blip r:embed="rId2"/>
          <a:stretch/>
        </p:blipFill>
        <p:spPr>
          <a:xfrm>
            <a:off x="7315200" y="2590920"/>
            <a:ext cx="1569960" cy="2361960"/>
          </a:xfrm>
          <a:prstGeom prst="rect">
            <a:avLst/>
          </a:prstGeom>
          <a:ln w="0">
            <a:noFill/>
          </a:ln>
        </p:spPr>
      </p:pic>
      <p:pic>
        <p:nvPicPr>
          <p:cNvPr id="48" name="BD07834_" descr=""/>
          <p:cNvPicPr/>
          <p:nvPr/>
        </p:nvPicPr>
        <p:blipFill>
          <a:blip r:embed="rId3"/>
          <a:stretch/>
        </p:blipFill>
        <p:spPr>
          <a:xfrm>
            <a:off x="0" y="2590920"/>
            <a:ext cx="210492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7T20:09:10Z</dcterms:created>
  <dc:creator>Pavilion Notebook User</dc:creator>
  <dc:description/>
  <dc:language>en-US</dc:language>
  <cp:lastModifiedBy>austin powers</cp:lastModifiedBy>
  <dcterms:modified xsi:type="dcterms:W3CDTF">2002-05-27T22:05:05Z</dcterms:modified>
  <cp:revision>4</cp:revision>
  <dc:subject/>
  <dc:title>Présentation PowerPoint</dc:title>
</cp:coreProperties>
</file>